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7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8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8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8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8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8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8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8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8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48880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320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3244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2"/>
          </p:nvPr>
        </p:nvSpPr>
        <p:spPr>
          <a:xfrm>
            <a:off x="0" y="9554760"/>
            <a:ext cx="3232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3"/>
          </p:nvPr>
        </p:nvSpPr>
        <p:spPr>
          <a:xfrm>
            <a:off x="4398480" y="9554760"/>
            <a:ext cx="32324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C8C54-0A1A-449A-A7B6-52E0D8C121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535F6-E5FD-416D-B2D9-4BDBD5B6CE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953A6-8522-4B75-8D7C-DC35FB6E63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07231-8F0D-416A-9EF5-58906F67E0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FFE26-6A74-4568-B6AF-B3030AFC57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80455-AD57-42AE-A884-61A4508F06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930E8-BBD3-4182-9368-E55543EE33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DD4E4-8071-41F9-9C12-9188F0D8A8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D32DD-A80A-4673-87C7-94E5D88C39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0F7BD-CF9C-4576-A19F-AF0361290E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777600" y="4772160"/>
            <a:ext cx="6078600" cy="45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11975-6282-4516-B599-983340A0D2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BCDDB-6D09-4768-8DD9-ED4B10030C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1"/>
          <p:cNvSpPr/>
          <p:nvPr/>
        </p:nvSpPr>
        <p:spPr>
          <a:xfrm>
            <a:off x="1371600" y="763560"/>
            <a:ext cx="489420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BD63B-2CC1-4806-9FE0-1ADCD5ABD2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3F52B-4DA3-45F3-8EBB-0ABF7B8CF8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50601-D5B1-4FEB-BB0B-7D940C8B55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1DFAD-FD7F-470F-AE7B-578429353F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11997-5F25-45F0-95F5-5FD4E37A10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"/>
          <p:cNvSpPr/>
          <p:nvPr/>
        </p:nvSpPr>
        <p:spPr>
          <a:xfrm>
            <a:off x="1371600" y="763560"/>
            <a:ext cx="489276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11226-A8F2-407B-AD85-4E91C86DD0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13F5B-66FC-4246-88E2-9E86E447F1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86139-A1C2-4CCD-BB3A-2E588AB529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48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080" y="2225160"/>
            <a:ext cx="4748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85320" y="8427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080" y="22251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85320" y="22251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15285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57320" y="842760"/>
            <a:ext cx="15285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62920" y="842760"/>
            <a:ext cx="15285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080" y="2225160"/>
            <a:ext cx="15285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57320" y="2225160"/>
            <a:ext cx="15285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62920" y="2225160"/>
            <a:ext cx="15285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080" y="842760"/>
            <a:ext cx="47480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480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696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85320" y="842760"/>
            <a:ext cx="231696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-41760"/>
            <a:ext cx="474192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72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85320" y="842760"/>
            <a:ext cx="231696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080" y="22251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696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85320" y="8427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85320" y="22251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85320" y="8427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080" y="2225160"/>
            <a:ext cx="4748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080" y="842760"/>
            <a:ext cx="47480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9684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29700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5.wmf"/><Relationship Id="rId14" Type="http://schemas.openxmlformats.org/officeDocument/2006/relationships/image" Target="../media/image7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untry Technical 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September 18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122076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onnectivity/Collaboration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764240" cy="26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nectivity with other XOs and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 mesh, up to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02.11b/g - via infrastructure access point, up to 20 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ejabberd on school server, 30-40 laptops per access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llaboration, typical session &lt;1 hou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t, 30-40 laptops can share a 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, 2-3 laptops can collaborate on a Write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rd, 8-10 laptops can share Record photos (sharing video is not supported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wse, 30-40 laptops can share Browse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-Ongoing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t-Installation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establish and train for local repair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contacts, process, pricing for ordering spare p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appropriate sysadmin, teacher train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nectivity, 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pgrades, Backups, Power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elopment, test and community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blem tracking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calation system for OLPC bu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8080"/>
                </a:solidFill>
                <a:latin typeface="Arial"/>
              </a:rPr>
              <a:t>Escalation for problem tracking</a:t>
            </a:r>
            <a:endParaRPr b="1" lang="en-US" sz="1800" spc="-1" strike="noStrike">
              <a:solidFill>
                <a:srgbClr val="ff8080"/>
              </a:solidFill>
              <a:latin typeface="Arial"/>
            </a:endParaRPr>
          </a:p>
        </p:txBody>
      </p:sp>
      <p:grpSp>
        <p:nvGrpSpPr>
          <p:cNvPr id="273" name="Group 2"/>
          <p:cNvGrpSpPr/>
          <p:nvPr/>
        </p:nvGrpSpPr>
        <p:grpSpPr>
          <a:xfrm>
            <a:off x="1600200" y="1219320"/>
            <a:ext cx="1065240" cy="899640"/>
            <a:chOff x="1600200" y="1219320"/>
            <a:chExt cx="1065240" cy="899640"/>
          </a:xfrm>
        </p:grpSpPr>
        <p:sp>
          <p:nvSpPr>
            <p:cNvPr id="274" name="Rectangle 3"/>
            <p:cNvSpPr/>
            <p:nvPr/>
          </p:nvSpPr>
          <p:spPr>
            <a:xfrm>
              <a:off x="1600200" y="1219320"/>
              <a:ext cx="10652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Text Box 4"/>
            <p:cNvSpPr/>
            <p:nvPr/>
          </p:nvSpPr>
          <p:spPr>
            <a:xfrm>
              <a:off x="1600200" y="1294920"/>
              <a:ext cx="1065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AQ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als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raining Ma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Group 5"/>
          <p:cNvGrpSpPr/>
          <p:nvPr/>
        </p:nvGrpSpPr>
        <p:grpSpPr>
          <a:xfrm>
            <a:off x="1600200" y="2286000"/>
            <a:ext cx="1065240" cy="824040"/>
            <a:chOff x="1600200" y="2286000"/>
            <a:chExt cx="1065240" cy="824040"/>
          </a:xfrm>
        </p:grpSpPr>
        <p:sp>
          <p:nvSpPr>
            <p:cNvPr id="277" name="Rectangle 6"/>
            <p:cNvSpPr/>
            <p:nvPr/>
          </p:nvSpPr>
          <p:spPr>
            <a:xfrm>
              <a:off x="1600200" y="2361960"/>
              <a:ext cx="10652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7"/>
            <p:cNvSpPr/>
            <p:nvPr/>
          </p:nvSpPr>
          <p:spPr>
            <a:xfrm>
              <a:off x="1600200" y="2286000"/>
              <a:ext cx="1065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roblem tracking syst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Group 8"/>
          <p:cNvGrpSpPr/>
          <p:nvPr/>
        </p:nvGrpSpPr>
        <p:grpSpPr>
          <a:xfrm>
            <a:off x="3962520" y="2666880"/>
            <a:ext cx="1065240" cy="824040"/>
            <a:chOff x="3962520" y="2666880"/>
            <a:chExt cx="1065240" cy="824040"/>
          </a:xfrm>
        </p:grpSpPr>
        <p:sp>
          <p:nvSpPr>
            <p:cNvPr id="280" name="Rectangle 9"/>
            <p:cNvSpPr/>
            <p:nvPr/>
          </p:nvSpPr>
          <p:spPr>
            <a:xfrm>
              <a:off x="3962520" y="2742840"/>
              <a:ext cx="106524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 Box 10"/>
            <p:cNvSpPr/>
            <p:nvPr/>
          </p:nvSpPr>
          <p:spPr>
            <a:xfrm>
              <a:off x="3962520" y="2666880"/>
              <a:ext cx="1065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"/>
                </a:rPr>
                <a:t>OLPC Problem Track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Text Box 11"/>
          <p:cNvSpPr/>
          <p:nvPr/>
        </p:nvSpPr>
        <p:spPr>
          <a:xfrm>
            <a:off x="152280" y="17524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2133720" y="320040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4038480" y="91440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3962520" y="99072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FAQ</a:t>
            </a:r>
            <a:br>
              <a:rPr sz="1200"/>
            </a:b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Wiki Do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Release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15"/>
          <p:cNvGrpSpPr/>
          <p:nvPr/>
        </p:nvGrpSpPr>
        <p:grpSpPr>
          <a:xfrm>
            <a:off x="3505320" y="1828800"/>
            <a:ext cx="1217520" cy="684360"/>
            <a:chOff x="3505320" y="1828800"/>
            <a:chExt cx="1217520" cy="684360"/>
          </a:xfrm>
        </p:grpSpPr>
        <p:sp>
          <p:nvSpPr>
            <p:cNvPr id="287" name="Rectangle 16"/>
            <p:cNvSpPr/>
            <p:nvPr/>
          </p:nvSpPr>
          <p:spPr>
            <a:xfrm>
              <a:off x="3580920" y="1828800"/>
              <a:ext cx="106560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Text Box 17"/>
            <p:cNvSpPr/>
            <p:nvPr/>
          </p:nvSpPr>
          <p:spPr>
            <a:xfrm>
              <a:off x="3505320" y="1980720"/>
              <a:ext cx="121752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"/>
                </a:rPr>
                <a:t>Tra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ts val="1074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3333cc"/>
                  </a:solidFill>
                  <a:latin typeface="Arial"/>
                </a:rPr>
                <a:t>(SW/HW bugs)</a:t>
              </a:r>
              <a:r>
                <a:rPr b="0" lang="en-GB" sz="1000" spc="-1" strike="noStrike">
                  <a:solidFill>
                    <a:srgbClr val="3333cc"/>
                  </a:solidFill>
                  <a:latin typeface="Arial"/>
                </a:rPr>
                <a:t>‏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Line 18"/>
          <p:cNvSpPr/>
          <p:nvPr/>
        </p:nvSpPr>
        <p:spPr>
          <a:xfrm flipV="1">
            <a:off x="2743200" y="1203480"/>
            <a:ext cx="1219320" cy="33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19"/>
          <p:cNvSpPr/>
          <p:nvPr/>
        </p:nvSpPr>
        <p:spPr>
          <a:xfrm flipV="1">
            <a:off x="4267080" y="24984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20"/>
          <p:cNvSpPr/>
          <p:nvPr/>
        </p:nvSpPr>
        <p:spPr>
          <a:xfrm flipV="1">
            <a:off x="4876920" y="1584000"/>
            <a:ext cx="1440" cy="11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21"/>
          <p:cNvSpPr/>
          <p:nvPr/>
        </p:nvSpPr>
        <p:spPr>
          <a:xfrm flipV="1">
            <a:off x="2133720" y="303192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22"/>
          <p:cNvSpPr/>
          <p:nvPr/>
        </p:nvSpPr>
        <p:spPr>
          <a:xfrm>
            <a:off x="3200400" y="914400"/>
            <a:ext cx="1440" cy="2514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3"/>
          <p:cNvSpPr/>
          <p:nvPr/>
        </p:nvSpPr>
        <p:spPr>
          <a:xfrm>
            <a:off x="1066680" y="2133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1828800" y="32004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scalation path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LPC Tech Suppo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5"/>
          <p:cNvSpPr/>
          <p:nvPr/>
        </p:nvSpPr>
        <p:spPr>
          <a:xfrm>
            <a:off x="3276720" y="838080"/>
            <a:ext cx="914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OL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26"/>
          <p:cNvSpPr/>
          <p:nvPr/>
        </p:nvSpPr>
        <p:spPr>
          <a:xfrm>
            <a:off x="2057400" y="838080"/>
            <a:ext cx="11430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ntry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27"/>
          <p:cNvSpPr/>
          <p:nvPr/>
        </p:nvSpPr>
        <p:spPr>
          <a:xfrm flipV="1">
            <a:off x="1066680" y="1507680"/>
            <a:ext cx="457200" cy="336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28"/>
          <p:cNvSpPr/>
          <p:nvPr/>
        </p:nvSpPr>
        <p:spPr>
          <a:xfrm>
            <a:off x="2133720" y="19051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Tech Support - Countr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76424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untry’s Role for Tech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localized FAQ (based on OLPC FAQ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Network/IT documentation for country specific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a database for deployment and for problem 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 which laptop goes to which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 laptops that have hw and sw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eep records of problems/resolutions to build knowledge 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cal teachers/administrators with info on how to track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-Mail to OLPC for problems not resolved lo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79440" y="277920"/>
            <a:ext cx="475776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Tech Support - Countr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77640" y="914400"/>
            <a:ext cx="47638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 Role for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repair center ideas, guidelines, troubleshooting manuals an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urage use of problem tickets, local help centers, FAQ, documentation of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urage the use of volunteers and local open source development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information on customizing activities and content; loc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an Escalation path to OL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79440" y="-41400"/>
            <a:ext cx="47577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ard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82720"/>
                <a:tab algn="l" pos="1339920"/>
                <a:tab algn="l" pos="1797120"/>
                <a:tab algn="l" pos="2254320"/>
                <a:tab algn="l" pos="2711520"/>
                <a:tab algn="l" pos="3168720"/>
                <a:tab algn="l" pos="3625920"/>
                <a:tab algn="l" pos="4083120"/>
                <a:tab algn="l" pos="4540320"/>
                <a:tab algn="l" pos="4997520"/>
                <a:tab algn="l" pos="5454720"/>
                <a:tab algn="l" pos="5911920"/>
                <a:tab algn="l" pos="6369120"/>
                <a:tab algn="l" pos="6826320"/>
                <a:tab algn="l" pos="7283520"/>
                <a:tab algn="l" pos="7740720"/>
                <a:tab algn="l" pos="8197920"/>
                <a:tab algn="l" pos="8655120"/>
                <a:tab algn="l" pos="9112320"/>
                <a:tab algn="l" pos="9115560"/>
                <a:tab algn="l" pos="9572760"/>
                <a:tab algn="l" pos="1002996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882720"/>
                <a:tab algn="l" pos="1339920"/>
                <a:tab algn="l" pos="1797120"/>
                <a:tab algn="l" pos="2254320"/>
                <a:tab algn="l" pos="2711520"/>
                <a:tab algn="l" pos="3168720"/>
                <a:tab algn="l" pos="3625920"/>
                <a:tab algn="l" pos="4083120"/>
                <a:tab algn="l" pos="4540320"/>
                <a:tab algn="l" pos="4997520"/>
                <a:tab algn="l" pos="5454720"/>
                <a:tab algn="l" pos="5911920"/>
                <a:tab algn="l" pos="6369120"/>
                <a:tab algn="l" pos="6826320"/>
                <a:tab algn="l" pos="7283520"/>
                <a:tab algn="l" pos="7740720"/>
                <a:tab algn="l" pos="8197920"/>
                <a:tab algn="l" pos="8655120"/>
                <a:tab algn="l" pos="9112320"/>
                <a:tab algn="l" pos="9115560"/>
                <a:tab algn="l" pos="9572760"/>
                <a:tab algn="l" pos="1002996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itional 1% shipped at no charge to cover 90 day breakage warra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882720"/>
                <a:tab algn="l" pos="1339920"/>
                <a:tab algn="l" pos="1797120"/>
                <a:tab algn="l" pos="2254320"/>
                <a:tab algn="l" pos="2711520"/>
                <a:tab algn="l" pos="3168720"/>
                <a:tab algn="l" pos="3625920"/>
                <a:tab algn="l" pos="4083120"/>
                <a:tab algn="l" pos="4540320"/>
                <a:tab algn="l" pos="4997520"/>
                <a:tab algn="l" pos="5454720"/>
                <a:tab algn="l" pos="5911920"/>
                <a:tab algn="l" pos="6369120"/>
                <a:tab algn="l" pos="6826320"/>
                <a:tab algn="l" pos="7283520"/>
                <a:tab algn="l" pos="7740720"/>
                <a:tab algn="l" pos="8197920"/>
                <a:tab algn="l" pos="8655120"/>
                <a:tab algn="l" pos="9112320"/>
                <a:tab algn="l" pos="9115560"/>
                <a:tab algn="l" pos="9572760"/>
                <a:tab algn="l" pos="1002996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DOA (Dead on Arrival) XOs to seed spare parts for Repair Ce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82720"/>
                <a:tab algn="l" pos="1339920"/>
                <a:tab algn="l" pos="1797120"/>
                <a:tab algn="l" pos="2254320"/>
                <a:tab algn="l" pos="2711520"/>
                <a:tab algn="l" pos="3168720"/>
                <a:tab algn="l" pos="3625920"/>
                <a:tab algn="l" pos="4083120"/>
                <a:tab algn="l" pos="4540320"/>
                <a:tab algn="l" pos="4997520"/>
                <a:tab algn="l" pos="5454720"/>
                <a:tab algn="l" pos="5911920"/>
                <a:tab algn="l" pos="6369120"/>
                <a:tab algn="l" pos="6826320"/>
                <a:tab algn="l" pos="7283520"/>
                <a:tab algn="l" pos="7740720"/>
                <a:tab algn="l" pos="8197920"/>
                <a:tab algn="l" pos="8655120"/>
                <a:tab algn="l" pos="9112320"/>
                <a:tab algn="l" pos="9115560"/>
                <a:tab algn="l" pos="9572760"/>
                <a:tab algn="l" pos="1002996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c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882720"/>
                <a:tab algn="l" pos="1339920"/>
                <a:tab algn="l" pos="1797120"/>
                <a:tab algn="l" pos="2254320"/>
                <a:tab algn="l" pos="2711520"/>
                <a:tab algn="l" pos="3168720"/>
                <a:tab algn="l" pos="3625920"/>
                <a:tab algn="l" pos="4083120"/>
                <a:tab algn="l" pos="4540320"/>
                <a:tab algn="l" pos="4997520"/>
                <a:tab algn="l" pos="5454720"/>
                <a:tab algn="l" pos="5911920"/>
                <a:tab algn="l" pos="6369120"/>
                <a:tab algn="l" pos="6826320"/>
                <a:tab algn="l" pos="7283520"/>
                <a:tab algn="l" pos="7740720"/>
                <a:tab algn="l" pos="8197920"/>
                <a:tab algn="l" pos="8655120"/>
                <a:tab algn="l" pos="9112320"/>
                <a:tab algn="l" pos="9115560"/>
                <a:tab algn="l" pos="9572760"/>
                <a:tab algn="l" pos="1002996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ct OLPC if &gt;1% failure r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82720"/>
                <a:tab algn="l" pos="1339920"/>
                <a:tab algn="l" pos="1797120"/>
                <a:tab algn="l" pos="2254320"/>
                <a:tab algn="l" pos="2711520"/>
                <a:tab algn="l" pos="3168720"/>
                <a:tab algn="l" pos="3625920"/>
                <a:tab algn="l" pos="4083120"/>
                <a:tab algn="l" pos="4540320"/>
                <a:tab algn="l" pos="4997520"/>
                <a:tab algn="l" pos="5454720"/>
                <a:tab algn="l" pos="5911920"/>
                <a:tab algn="l" pos="6369120"/>
                <a:tab algn="l" pos="6826320"/>
                <a:tab algn="l" pos="7283520"/>
                <a:tab algn="l" pos="7740720"/>
                <a:tab algn="l" pos="8197920"/>
                <a:tab algn="l" pos="8655120"/>
                <a:tab algn="l" pos="9112320"/>
                <a:tab algn="l" pos="9115560"/>
                <a:tab algn="l" pos="9572760"/>
                <a:tab algn="l" pos="1002996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e. previous batteries that did not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ard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764240" cy="26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a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LPC supplies troubleshooting documentation (English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/go/XO_Troubleshooting_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ntry supplies local repair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unt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courage Small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r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Deployments: &gt;10,000 XOs direct contact with manufacturer, i.e. batteries, displays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er Deployments: work with OLPC/Brightstar for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oft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4764240" cy="24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n sourc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ows/encourages contributions from man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proprietary or licensing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formal support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lists.laptop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oft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 rel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rget of 2 major releases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inue improvements in security, power management, collaboration, upgra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or or patch re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ress urgent security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itical bugs, Language/keyboard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Activities are developed outside of OL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/go/Re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6000"/>
              </a:lnSpc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480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54520" cy="25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act me: reuben@laptop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ry Team Conta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-techsupport@laptop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47577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Planning for Deployment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2440" y="105876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ning in 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ablish Country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ing and Choosing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tocol for End User Sup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9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loyment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2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ccccff"/>
                </a:solidFill>
                <a:latin typeface="Arial"/>
              </a:rPr>
              <a:t>http://wiki.laptop.org/go/Deployment_Gu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-Planning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 and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oose and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nguage and Key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is available in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quipment for Char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 Roll-out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allation and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 ready to upgrade and image all X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B Up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 for upgrades after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hoo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B Dr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ecur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-Activated Lapto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keys required, no proces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rive in default condition; countries must specify need for Anti-th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-Activated Laptops: Anti-theft in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ommended for &gt;5000 lapt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ivation key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ployment tech contacts must obtain activation keys and lear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ortant planning required at warehouse and at activation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4660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onnectiv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5308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frastructure: Wired/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ale: Number of XOs in class and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1120" y="19224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under a tre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971800" y="914400"/>
            <a:ext cx="1325520" cy="164628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4024440" y="1828800"/>
            <a:ext cx="593280" cy="563400"/>
            <a:chOff x="4024440" y="1828800"/>
            <a:chExt cx="593280" cy="563400"/>
          </a:xfrm>
        </p:grpSpPr>
        <p:pic>
          <p:nvPicPr>
            <p:cNvPr id="154" name="Picture 4" descr=""/>
            <p:cNvPicPr/>
            <p:nvPr/>
          </p:nvPicPr>
          <p:blipFill>
            <a:blip r:embed="rId2"/>
            <a:stretch/>
          </p:blipFill>
          <p:spPr>
            <a:xfrm>
              <a:off x="4024440" y="1828800"/>
              <a:ext cx="59220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5"/>
            <p:cNvSpPr/>
            <p:nvPr/>
          </p:nvSpPr>
          <p:spPr>
            <a:xfrm>
              <a:off x="4469400" y="2084760"/>
              <a:ext cx="14832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304920" y="1905120"/>
            <a:ext cx="593640" cy="563400"/>
            <a:chOff x="304920" y="1905120"/>
            <a:chExt cx="593640" cy="563400"/>
          </a:xfrm>
        </p:grpSpPr>
        <p:pic>
          <p:nvPicPr>
            <p:cNvPr id="157" name="Picture 7" descr=""/>
            <p:cNvPicPr/>
            <p:nvPr/>
          </p:nvPicPr>
          <p:blipFill>
            <a:blip r:embed="rId3"/>
            <a:stretch/>
          </p:blipFill>
          <p:spPr>
            <a:xfrm>
              <a:off x="304920" y="1905120"/>
              <a:ext cx="5936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8"/>
            <p:cNvSpPr/>
            <p:nvPr/>
          </p:nvSpPr>
          <p:spPr>
            <a:xfrm>
              <a:off x="749880" y="2161080"/>
              <a:ext cx="14832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1828800" y="1949400"/>
            <a:ext cx="592200" cy="563760"/>
            <a:chOff x="1828800" y="1949400"/>
            <a:chExt cx="592200" cy="563760"/>
          </a:xfrm>
        </p:grpSpPr>
        <p:pic>
          <p:nvPicPr>
            <p:cNvPr id="160" name="Picture 10" descr=""/>
            <p:cNvPicPr/>
            <p:nvPr/>
          </p:nvPicPr>
          <p:blipFill>
            <a:blip r:embed="rId4"/>
            <a:stretch/>
          </p:blipFill>
          <p:spPr>
            <a:xfrm>
              <a:off x="1828800" y="1949400"/>
              <a:ext cx="59220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Rectangle 11"/>
            <p:cNvSpPr/>
            <p:nvPr/>
          </p:nvSpPr>
          <p:spPr>
            <a:xfrm>
              <a:off x="2272320" y="2206080"/>
              <a:ext cx="14832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Group 12"/>
          <p:cNvGrpSpPr/>
          <p:nvPr/>
        </p:nvGrpSpPr>
        <p:grpSpPr>
          <a:xfrm>
            <a:off x="3932280" y="2468520"/>
            <a:ext cx="593280" cy="563760"/>
            <a:chOff x="3932280" y="2468520"/>
            <a:chExt cx="593280" cy="563760"/>
          </a:xfrm>
        </p:grpSpPr>
        <p:pic>
          <p:nvPicPr>
            <p:cNvPr id="163" name="Picture 13" descr=""/>
            <p:cNvPicPr/>
            <p:nvPr/>
          </p:nvPicPr>
          <p:blipFill>
            <a:blip r:embed="rId5"/>
            <a:stretch/>
          </p:blipFill>
          <p:spPr>
            <a:xfrm>
              <a:off x="3932280" y="2468520"/>
              <a:ext cx="59184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Rectangle 14"/>
            <p:cNvSpPr/>
            <p:nvPr/>
          </p:nvSpPr>
          <p:spPr>
            <a:xfrm>
              <a:off x="4376880" y="2724840"/>
              <a:ext cx="148680" cy="14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Group 15"/>
          <p:cNvGrpSpPr/>
          <p:nvPr/>
        </p:nvGrpSpPr>
        <p:grpSpPr>
          <a:xfrm>
            <a:off x="3246480" y="2606760"/>
            <a:ext cx="593280" cy="563400"/>
            <a:chOff x="3246480" y="2606760"/>
            <a:chExt cx="593280" cy="563400"/>
          </a:xfrm>
        </p:grpSpPr>
        <p:pic>
          <p:nvPicPr>
            <p:cNvPr id="166" name="Picture 16" descr=""/>
            <p:cNvPicPr/>
            <p:nvPr/>
          </p:nvPicPr>
          <p:blipFill>
            <a:blip r:embed="rId6"/>
            <a:stretch/>
          </p:blipFill>
          <p:spPr>
            <a:xfrm>
              <a:off x="3246480" y="2606760"/>
              <a:ext cx="5918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Rectangle 17"/>
            <p:cNvSpPr/>
            <p:nvPr/>
          </p:nvSpPr>
          <p:spPr>
            <a:xfrm>
              <a:off x="3691080" y="2862720"/>
              <a:ext cx="14868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8"/>
          <p:cNvGrpSpPr/>
          <p:nvPr/>
        </p:nvGrpSpPr>
        <p:grpSpPr>
          <a:xfrm>
            <a:off x="4525920" y="2103480"/>
            <a:ext cx="593640" cy="563400"/>
            <a:chOff x="4525920" y="2103480"/>
            <a:chExt cx="593640" cy="563400"/>
          </a:xfrm>
        </p:grpSpPr>
        <p:pic>
          <p:nvPicPr>
            <p:cNvPr id="169" name="Picture 19" descr=""/>
            <p:cNvPicPr/>
            <p:nvPr/>
          </p:nvPicPr>
          <p:blipFill>
            <a:blip r:embed="rId7"/>
            <a:stretch/>
          </p:blipFill>
          <p:spPr>
            <a:xfrm>
              <a:off x="4525920" y="2103480"/>
              <a:ext cx="5936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Rectangle 20"/>
            <p:cNvSpPr/>
            <p:nvPr/>
          </p:nvSpPr>
          <p:spPr>
            <a:xfrm>
              <a:off x="4970520" y="2359440"/>
              <a:ext cx="14868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1"/>
          <p:cNvSpPr/>
          <p:nvPr/>
        </p:nvSpPr>
        <p:spPr>
          <a:xfrm>
            <a:off x="457200" y="914400"/>
            <a:ext cx="18288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10 laptops per mesh channel (3 channels) can collaborate with no wireless infrastructu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2"/>
          <p:cNvSpPr/>
          <p:nvPr/>
        </p:nvSpPr>
        <p:spPr>
          <a:xfrm>
            <a:off x="990720" y="22096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3"/>
          <p:cNvSpPr/>
          <p:nvPr/>
        </p:nvSpPr>
        <p:spPr>
          <a:xfrm>
            <a:off x="2514600" y="2286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1120" y="20016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with AP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1050840" cy="787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2201760" y="2384280"/>
            <a:ext cx="335160" cy="3589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2430360" y="2384280"/>
            <a:ext cx="5493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P/Route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2057760" y="274320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1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 flipH="1" flipV="1">
            <a:off x="1820880" y="2550600"/>
            <a:ext cx="396720" cy="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3521160" y="914400"/>
            <a:ext cx="1506240" cy="563400"/>
            <a:chOff x="3521160" y="914400"/>
            <a:chExt cx="1506240" cy="563400"/>
          </a:xfrm>
        </p:grpSpPr>
        <p:grpSp>
          <p:nvGrpSpPr>
            <p:cNvPr id="181" name="Group 8"/>
            <p:cNvGrpSpPr/>
            <p:nvPr/>
          </p:nvGrpSpPr>
          <p:grpSpPr>
            <a:xfrm>
              <a:off x="3521160" y="914400"/>
              <a:ext cx="592200" cy="563400"/>
              <a:chOff x="3521160" y="914400"/>
              <a:chExt cx="592200" cy="563400"/>
            </a:xfrm>
          </p:grpSpPr>
          <p:pic>
            <p:nvPicPr>
              <p:cNvPr id="182" name="Pictur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521160" y="914400"/>
                <a:ext cx="59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Rectangle 10"/>
              <p:cNvSpPr/>
              <p:nvPr/>
            </p:nvSpPr>
            <p:spPr>
              <a:xfrm>
                <a:off x="3964320" y="11703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11"/>
            <p:cNvGrpSpPr/>
            <p:nvPr/>
          </p:nvGrpSpPr>
          <p:grpSpPr>
            <a:xfrm>
              <a:off x="3978360" y="914400"/>
              <a:ext cx="592200" cy="563400"/>
              <a:chOff x="3978360" y="914400"/>
              <a:chExt cx="592200" cy="563400"/>
            </a:xfrm>
          </p:grpSpPr>
          <p:pic>
            <p:nvPicPr>
              <p:cNvPr id="185" name="Pictu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978360" y="914400"/>
                <a:ext cx="59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Rectangle 13"/>
              <p:cNvSpPr/>
              <p:nvPr/>
            </p:nvSpPr>
            <p:spPr>
              <a:xfrm>
                <a:off x="4421520" y="11703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4"/>
            <p:cNvGrpSpPr/>
            <p:nvPr/>
          </p:nvGrpSpPr>
          <p:grpSpPr>
            <a:xfrm>
              <a:off x="4433760" y="914400"/>
              <a:ext cx="593640" cy="563400"/>
              <a:chOff x="4433760" y="914400"/>
              <a:chExt cx="593640" cy="563400"/>
            </a:xfrm>
          </p:grpSpPr>
          <p:pic>
            <p:nvPicPr>
              <p:cNvPr id="188" name="Pictur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4433760" y="914400"/>
                <a:ext cx="59256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Rectangle 16"/>
              <p:cNvSpPr/>
              <p:nvPr/>
            </p:nvSpPr>
            <p:spPr>
              <a:xfrm>
                <a:off x="4878720" y="11703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7"/>
          <p:cNvGrpSpPr/>
          <p:nvPr/>
        </p:nvGrpSpPr>
        <p:grpSpPr>
          <a:xfrm>
            <a:off x="3490920" y="1477800"/>
            <a:ext cx="1506600" cy="563760"/>
            <a:chOff x="3490920" y="1477800"/>
            <a:chExt cx="1506600" cy="563760"/>
          </a:xfrm>
        </p:grpSpPr>
        <p:grpSp>
          <p:nvGrpSpPr>
            <p:cNvPr id="191" name="Group 18"/>
            <p:cNvGrpSpPr/>
            <p:nvPr/>
          </p:nvGrpSpPr>
          <p:grpSpPr>
            <a:xfrm>
              <a:off x="3490920" y="1477800"/>
              <a:ext cx="593280" cy="563760"/>
              <a:chOff x="3490920" y="1477800"/>
              <a:chExt cx="593280" cy="563760"/>
            </a:xfrm>
          </p:grpSpPr>
          <p:pic>
            <p:nvPicPr>
              <p:cNvPr id="192" name="Picture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3490920" y="1477800"/>
                <a:ext cx="59184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Rectangle 20"/>
              <p:cNvSpPr/>
              <p:nvPr/>
            </p:nvSpPr>
            <p:spPr>
              <a:xfrm>
                <a:off x="3935520" y="173448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3948120" y="1477800"/>
              <a:ext cx="592200" cy="563760"/>
              <a:chOff x="3948120" y="1477800"/>
              <a:chExt cx="592200" cy="563760"/>
            </a:xfrm>
          </p:grpSpPr>
          <p:pic>
            <p:nvPicPr>
              <p:cNvPr id="195" name="Pictur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3948120" y="1477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Rectangle 23"/>
              <p:cNvSpPr/>
              <p:nvPr/>
            </p:nvSpPr>
            <p:spPr>
              <a:xfrm>
                <a:off x="4391640" y="1734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24"/>
            <p:cNvGrpSpPr/>
            <p:nvPr/>
          </p:nvGrpSpPr>
          <p:grpSpPr>
            <a:xfrm>
              <a:off x="4405320" y="1477800"/>
              <a:ext cx="592200" cy="563760"/>
              <a:chOff x="4405320" y="1477800"/>
              <a:chExt cx="592200" cy="563760"/>
            </a:xfrm>
          </p:grpSpPr>
          <p:pic>
            <p:nvPicPr>
              <p:cNvPr id="198" name="Pictur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4405320" y="1477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Rectangle 26"/>
              <p:cNvSpPr/>
              <p:nvPr/>
            </p:nvSpPr>
            <p:spPr>
              <a:xfrm>
                <a:off x="4848840" y="1734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27"/>
          <p:cNvGrpSpPr/>
          <p:nvPr/>
        </p:nvGrpSpPr>
        <p:grpSpPr>
          <a:xfrm>
            <a:off x="3124080" y="1981080"/>
            <a:ext cx="1508400" cy="563760"/>
            <a:chOff x="3124080" y="1981080"/>
            <a:chExt cx="1508400" cy="563760"/>
          </a:xfrm>
        </p:grpSpPr>
        <p:grpSp>
          <p:nvGrpSpPr>
            <p:cNvPr id="201" name="Group 28"/>
            <p:cNvGrpSpPr/>
            <p:nvPr/>
          </p:nvGrpSpPr>
          <p:grpSpPr>
            <a:xfrm>
              <a:off x="3124080" y="1981080"/>
              <a:ext cx="594000" cy="563760"/>
              <a:chOff x="3124080" y="1981080"/>
              <a:chExt cx="594000" cy="563760"/>
            </a:xfrm>
          </p:grpSpPr>
          <p:pic>
            <p:nvPicPr>
              <p:cNvPr id="202" name="Picture 29" descr=""/>
              <p:cNvPicPr/>
              <p:nvPr/>
            </p:nvPicPr>
            <p:blipFill>
              <a:blip r:embed="rId9"/>
              <a:stretch/>
            </p:blipFill>
            <p:spPr>
              <a:xfrm>
                <a:off x="3124080" y="1981080"/>
                <a:ext cx="5940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Rectangle 30"/>
              <p:cNvSpPr/>
              <p:nvPr/>
            </p:nvSpPr>
            <p:spPr>
              <a:xfrm>
                <a:off x="3569040" y="22377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31"/>
            <p:cNvGrpSpPr/>
            <p:nvPr/>
          </p:nvGrpSpPr>
          <p:grpSpPr>
            <a:xfrm>
              <a:off x="3581280" y="1981080"/>
              <a:ext cx="594000" cy="563760"/>
              <a:chOff x="3581280" y="1981080"/>
              <a:chExt cx="594000" cy="563760"/>
            </a:xfrm>
          </p:grpSpPr>
          <p:pic>
            <p:nvPicPr>
              <p:cNvPr id="205" name="Pictur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3581280" y="1981080"/>
                <a:ext cx="5940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Rectangle 33"/>
              <p:cNvSpPr/>
              <p:nvPr/>
            </p:nvSpPr>
            <p:spPr>
              <a:xfrm>
                <a:off x="4026240" y="22377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34"/>
            <p:cNvGrpSpPr/>
            <p:nvPr/>
          </p:nvGrpSpPr>
          <p:grpSpPr>
            <a:xfrm>
              <a:off x="4038480" y="1981080"/>
              <a:ext cx="594000" cy="563760"/>
              <a:chOff x="4038480" y="1981080"/>
              <a:chExt cx="594000" cy="563760"/>
            </a:xfrm>
          </p:grpSpPr>
          <p:pic>
            <p:nvPicPr>
              <p:cNvPr id="208" name="Picture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4038480" y="1981080"/>
                <a:ext cx="5940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Rectangle 36"/>
              <p:cNvSpPr/>
              <p:nvPr/>
            </p:nvSpPr>
            <p:spPr>
              <a:xfrm>
                <a:off x="4483440" y="22377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Text Box 37"/>
          <p:cNvSpPr/>
          <p:nvPr/>
        </p:nvSpPr>
        <p:spPr>
          <a:xfrm>
            <a:off x="0" y="914400"/>
            <a:ext cx="3657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20 Laptops / Access Poi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More than 60 laptops and 3 Access Points requires site survey and carefully designed infrastructu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with XS Serv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1568520" y="2179800"/>
            <a:ext cx="777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XS</a:t>
            </a:r>
            <a:br>
              <a:rPr sz="700"/>
            </a:b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chool Serve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 flipH="1" flipV="1">
            <a:off x="1369800" y="1157040"/>
            <a:ext cx="16956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1143000" y="2743200"/>
            <a:ext cx="1508040" cy="561960"/>
            <a:chOff x="1143000" y="2743200"/>
            <a:chExt cx="1508040" cy="561960"/>
          </a:xfrm>
        </p:grpSpPr>
        <p:grpSp>
          <p:nvGrpSpPr>
            <p:cNvPr id="215" name="Group 5"/>
            <p:cNvGrpSpPr/>
            <p:nvPr/>
          </p:nvGrpSpPr>
          <p:grpSpPr>
            <a:xfrm>
              <a:off x="1143000" y="2743200"/>
              <a:ext cx="593640" cy="561960"/>
              <a:chOff x="1143000" y="2743200"/>
              <a:chExt cx="593640" cy="561960"/>
            </a:xfrm>
          </p:grpSpPr>
          <p:pic>
            <p:nvPicPr>
              <p:cNvPr id="216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743200"/>
                <a:ext cx="593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Rectangle 7"/>
              <p:cNvSpPr/>
              <p:nvPr/>
            </p:nvSpPr>
            <p:spPr>
              <a:xfrm>
                <a:off x="1587600" y="299952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8"/>
            <p:cNvGrpSpPr/>
            <p:nvPr/>
          </p:nvGrpSpPr>
          <p:grpSpPr>
            <a:xfrm>
              <a:off x="1600200" y="2743200"/>
              <a:ext cx="593640" cy="561960"/>
              <a:chOff x="1600200" y="2743200"/>
              <a:chExt cx="593640" cy="561960"/>
            </a:xfrm>
          </p:grpSpPr>
          <p:pic>
            <p:nvPicPr>
              <p:cNvPr id="219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600200" y="2743200"/>
                <a:ext cx="593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Rectangle 10"/>
              <p:cNvSpPr/>
              <p:nvPr/>
            </p:nvSpPr>
            <p:spPr>
              <a:xfrm>
                <a:off x="2044800" y="299952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1"/>
            <p:cNvGrpSpPr/>
            <p:nvPr/>
          </p:nvGrpSpPr>
          <p:grpSpPr>
            <a:xfrm>
              <a:off x="2057400" y="2743200"/>
              <a:ext cx="593640" cy="561960"/>
              <a:chOff x="2057400" y="2743200"/>
              <a:chExt cx="593640" cy="561960"/>
            </a:xfrm>
          </p:grpSpPr>
          <p:pic>
            <p:nvPicPr>
              <p:cNvPr id="222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7400" y="2743200"/>
                <a:ext cx="593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Rectangle 13"/>
              <p:cNvSpPr/>
              <p:nvPr/>
            </p:nvSpPr>
            <p:spPr>
              <a:xfrm>
                <a:off x="2502000" y="299952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Group 14"/>
          <p:cNvGrpSpPr/>
          <p:nvPr/>
        </p:nvGrpSpPr>
        <p:grpSpPr>
          <a:xfrm>
            <a:off x="3549600" y="1630440"/>
            <a:ext cx="1508040" cy="563400"/>
            <a:chOff x="3549600" y="1630440"/>
            <a:chExt cx="1508040" cy="563400"/>
          </a:xfrm>
        </p:grpSpPr>
        <p:grpSp>
          <p:nvGrpSpPr>
            <p:cNvPr id="225" name="Group 15"/>
            <p:cNvGrpSpPr/>
            <p:nvPr/>
          </p:nvGrpSpPr>
          <p:grpSpPr>
            <a:xfrm>
              <a:off x="3549600" y="1630440"/>
              <a:ext cx="593640" cy="563400"/>
              <a:chOff x="3549600" y="1630440"/>
              <a:chExt cx="593640" cy="563400"/>
            </a:xfrm>
          </p:grpSpPr>
          <p:pic>
            <p:nvPicPr>
              <p:cNvPr id="226" name="Pictur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9600" y="1630440"/>
                <a:ext cx="5936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Rectangle 17"/>
              <p:cNvSpPr/>
              <p:nvPr/>
            </p:nvSpPr>
            <p:spPr>
              <a:xfrm>
                <a:off x="3994200" y="188640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18"/>
            <p:cNvGrpSpPr/>
            <p:nvPr/>
          </p:nvGrpSpPr>
          <p:grpSpPr>
            <a:xfrm>
              <a:off x="4006800" y="1630440"/>
              <a:ext cx="593640" cy="563400"/>
              <a:chOff x="4006800" y="1630440"/>
              <a:chExt cx="593640" cy="563400"/>
            </a:xfrm>
          </p:grpSpPr>
          <p:pic>
            <p:nvPicPr>
              <p:cNvPr id="229" name="Picture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4006800" y="1630440"/>
                <a:ext cx="5936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Rectangle 20"/>
              <p:cNvSpPr/>
              <p:nvPr/>
            </p:nvSpPr>
            <p:spPr>
              <a:xfrm>
                <a:off x="4451400" y="188640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21"/>
            <p:cNvGrpSpPr/>
            <p:nvPr/>
          </p:nvGrpSpPr>
          <p:grpSpPr>
            <a:xfrm>
              <a:off x="4464000" y="1630440"/>
              <a:ext cx="593640" cy="563400"/>
              <a:chOff x="4464000" y="1630440"/>
              <a:chExt cx="593640" cy="563400"/>
            </a:xfrm>
          </p:grpSpPr>
          <p:pic>
            <p:nvPicPr>
              <p:cNvPr id="232" name="Pictur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4464000" y="1630440"/>
                <a:ext cx="5936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Rectangle 23"/>
              <p:cNvSpPr/>
              <p:nvPr/>
            </p:nvSpPr>
            <p:spPr>
              <a:xfrm>
                <a:off x="4908600" y="188640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Group 24"/>
          <p:cNvGrpSpPr/>
          <p:nvPr/>
        </p:nvGrpSpPr>
        <p:grpSpPr>
          <a:xfrm>
            <a:off x="3505320" y="2224080"/>
            <a:ext cx="1506240" cy="563400"/>
            <a:chOff x="3505320" y="2224080"/>
            <a:chExt cx="1506240" cy="563400"/>
          </a:xfrm>
        </p:grpSpPr>
        <p:grpSp>
          <p:nvGrpSpPr>
            <p:cNvPr id="235" name="Group 25"/>
            <p:cNvGrpSpPr/>
            <p:nvPr/>
          </p:nvGrpSpPr>
          <p:grpSpPr>
            <a:xfrm>
              <a:off x="3505320" y="2224080"/>
              <a:ext cx="593280" cy="563400"/>
              <a:chOff x="3505320" y="2224080"/>
              <a:chExt cx="593280" cy="563400"/>
            </a:xfrm>
          </p:grpSpPr>
          <p:pic>
            <p:nvPicPr>
              <p:cNvPr id="236" name="Pictur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3505320" y="2224080"/>
                <a:ext cx="59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Rectangle 27"/>
              <p:cNvSpPr/>
              <p:nvPr/>
            </p:nvSpPr>
            <p:spPr>
              <a:xfrm>
                <a:off x="3950280" y="2480040"/>
                <a:ext cx="14832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28"/>
            <p:cNvGrpSpPr/>
            <p:nvPr/>
          </p:nvGrpSpPr>
          <p:grpSpPr>
            <a:xfrm>
              <a:off x="3962520" y="2224080"/>
              <a:ext cx="591840" cy="563400"/>
              <a:chOff x="3962520" y="2224080"/>
              <a:chExt cx="591840" cy="563400"/>
            </a:xfrm>
          </p:grpSpPr>
          <p:pic>
            <p:nvPicPr>
              <p:cNvPr id="239" name="Picture 29" descr=""/>
              <p:cNvPicPr/>
              <p:nvPr/>
            </p:nvPicPr>
            <p:blipFill>
              <a:blip r:embed="rId8"/>
              <a:stretch/>
            </p:blipFill>
            <p:spPr>
              <a:xfrm>
                <a:off x="3962520" y="2224080"/>
                <a:ext cx="5918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Rectangle 30"/>
              <p:cNvSpPr/>
              <p:nvPr/>
            </p:nvSpPr>
            <p:spPr>
              <a:xfrm>
                <a:off x="4405320" y="2480040"/>
                <a:ext cx="14868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31"/>
            <p:cNvGrpSpPr/>
            <p:nvPr/>
          </p:nvGrpSpPr>
          <p:grpSpPr>
            <a:xfrm>
              <a:off x="4419720" y="2224080"/>
              <a:ext cx="591840" cy="563400"/>
              <a:chOff x="4419720" y="2224080"/>
              <a:chExt cx="591840" cy="563400"/>
            </a:xfrm>
          </p:grpSpPr>
          <p:pic>
            <p:nvPicPr>
              <p:cNvPr id="242" name="Picture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4419720" y="2224080"/>
                <a:ext cx="5918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Rectangle 33"/>
              <p:cNvSpPr/>
              <p:nvPr/>
            </p:nvSpPr>
            <p:spPr>
              <a:xfrm>
                <a:off x="4862520" y="2480040"/>
                <a:ext cx="14868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4" name="Group 34"/>
          <p:cNvGrpSpPr/>
          <p:nvPr/>
        </p:nvGrpSpPr>
        <p:grpSpPr>
          <a:xfrm>
            <a:off x="2971800" y="2863800"/>
            <a:ext cx="1506600" cy="563760"/>
            <a:chOff x="2971800" y="2863800"/>
            <a:chExt cx="1506600" cy="563760"/>
          </a:xfrm>
        </p:grpSpPr>
        <p:grpSp>
          <p:nvGrpSpPr>
            <p:cNvPr id="245" name="Group 35"/>
            <p:cNvGrpSpPr/>
            <p:nvPr/>
          </p:nvGrpSpPr>
          <p:grpSpPr>
            <a:xfrm>
              <a:off x="2971800" y="2863800"/>
              <a:ext cx="593280" cy="563760"/>
              <a:chOff x="2971800" y="2863800"/>
              <a:chExt cx="593280" cy="563760"/>
            </a:xfrm>
          </p:grpSpPr>
          <p:pic>
            <p:nvPicPr>
              <p:cNvPr id="246" name="Picture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2971800" y="2863800"/>
                <a:ext cx="59184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Rectangle 37"/>
              <p:cNvSpPr/>
              <p:nvPr/>
            </p:nvSpPr>
            <p:spPr>
              <a:xfrm>
                <a:off x="3416400" y="312048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38"/>
            <p:cNvGrpSpPr/>
            <p:nvPr/>
          </p:nvGrpSpPr>
          <p:grpSpPr>
            <a:xfrm>
              <a:off x="3429000" y="2863800"/>
              <a:ext cx="592200" cy="563760"/>
              <a:chOff x="3429000" y="2863800"/>
              <a:chExt cx="592200" cy="563760"/>
            </a:xfrm>
          </p:grpSpPr>
          <p:pic>
            <p:nvPicPr>
              <p:cNvPr id="249" name="Picture 39" descr=""/>
              <p:cNvPicPr/>
              <p:nvPr/>
            </p:nvPicPr>
            <p:blipFill>
              <a:blip r:embed="rId11"/>
              <a:stretch/>
            </p:blipFill>
            <p:spPr>
              <a:xfrm>
                <a:off x="3429000" y="2863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Rectangle 40"/>
              <p:cNvSpPr/>
              <p:nvPr/>
            </p:nvSpPr>
            <p:spPr>
              <a:xfrm>
                <a:off x="3872520" y="3120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41"/>
            <p:cNvGrpSpPr/>
            <p:nvPr/>
          </p:nvGrpSpPr>
          <p:grpSpPr>
            <a:xfrm>
              <a:off x="3886200" y="2863800"/>
              <a:ext cx="592200" cy="563760"/>
              <a:chOff x="3886200" y="2863800"/>
              <a:chExt cx="592200" cy="563760"/>
            </a:xfrm>
          </p:grpSpPr>
          <p:pic>
            <p:nvPicPr>
              <p:cNvPr id="252" name="Picture 42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86200" y="2863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Rectangle 43"/>
              <p:cNvSpPr/>
              <p:nvPr/>
            </p:nvSpPr>
            <p:spPr>
              <a:xfrm>
                <a:off x="4329720" y="3120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54" name="Picture 44" descr=""/>
          <p:cNvPicPr/>
          <p:nvPr/>
        </p:nvPicPr>
        <p:blipFill>
          <a:blip r:embed="rId13"/>
          <a:stretch/>
        </p:blipFill>
        <p:spPr>
          <a:xfrm>
            <a:off x="685800" y="1158840"/>
            <a:ext cx="1052640" cy="785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5" descr=""/>
          <p:cNvPicPr/>
          <p:nvPr/>
        </p:nvPicPr>
        <p:blipFill>
          <a:blip r:embed="rId14"/>
          <a:stretch/>
        </p:blipFill>
        <p:spPr>
          <a:xfrm>
            <a:off x="1752480" y="1676520"/>
            <a:ext cx="611280" cy="639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6" descr=""/>
          <p:cNvPicPr/>
          <p:nvPr/>
        </p:nvPicPr>
        <p:blipFill>
          <a:blip r:embed="rId15"/>
          <a:stretch/>
        </p:blipFill>
        <p:spPr>
          <a:xfrm>
            <a:off x="2529000" y="1173240"/>
            <a:ext cx="334800" cy="360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7" descr=""/>
          <p:cNvPicPr/>
          <p:nvPr/>
        </p:nvPicPr>
        <p:blipFill>
          <a:blip r:embed="rId16"/>
          <a:stretch/>
        </p:blipFill>
        <p:spPr>
          <a:xfrm>
            <a:off x="2849400" y="1676520"/>
            <a:ext cx="333360" cy="358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8" descr=""/>
          <p:cNvPicPr/>
          <p:nvPr/>
        </p:nvPicPr>
        <p:blipFill>
          <a:blip r:embed="rId17"/>
          <a:stretch/>
        </p:blipFill>
        <p:spPr>
          <a:xfrm>
            <a:off x="2666880" y="2179800"/>
            <a:ext cx="333360" cy="358560"/>
          </a:xfrm>
          <a:prstGeom prst="rect">
            <a:avLst/>
          </a:prstGeom>
          <a:ln w="0">
            <a:noFill/>
          </a:ln>
        </p:spPr>
      </p:pic>
      <p:sp>
        <p:nvSpPr>
          <p:cNvPr id="259" name="Line 49"/>
          <p:cNvSpPr/>
          <p:nvPr/>
        </p:nvSpPr>
        <p:spPr>
          <a:xfrm flipV="1">
            <a:off x="2163600" y="1477800"/>
            <a:ext cx="41148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50"/>
          <p:cNvSpPr/>
          <p:nvPr/>
        </p:nvSpPr>
        <p:spPr>
          <a:xfrm flipV="1">
            <a:off x="2209680" y="1889280"/>
            <a:ext cx="68580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51"/>
          <p:cNvSpPr/>
          <p:nvPr/>
        </p:nvSpPr>
        <p:spPr>
          <a:xfrm>
            <a:off x="2209680" y="2087640"/>
            <a:ext cx="54792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52"/>
          <p:cNvSpPr/>
          <p:nvPr/>
        </p:nvSpPr>
        <p:spPr>
          <a:xfrm>
            <a:off x="2757600" y="1173240"/>
            <a:ext cx="32040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53"/>
          <p:cNvSpPr/>
          <p:nvPr/>
        </p:nvSpPr>
        <p:spPr>
          <a:xfrm>
            <a:off x="2483280" y="149400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1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54"/>
          <p:cNvSpPr/>
          <p:nvPr/>
        </p:nvSpPr>
        <p:spPr>
          <a:xfrm>
            <a:off x="2804040" y="199692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6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55"/>
          <p:cNvSpPr/>
          <p:nvPr/>
        </p:nvSpPr>
        <p:spPr>
          <a:xfrm>
            <a:off x="2575440" y="2500200"/>
            <a:ext cx="30528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11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56"/>
          <p:cNvSpPr/>
          <p:nvPr/>
        </p:nvSpPr>
        <p:spPr>
          <a:xfrm flipH="1" flipV="1">
            <a:off x="1507680" y="1523880"/>
            <a:ext cx="39708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7"/>
          <p:cNvSpPr/>
          <p:nvPr/>
        </p:nvSpPr>
        <p:spPr>
          <a:xfrm>
            <a:off x="3063960" y="620640"/>
            <a:ext cx="28796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30-40 laptops per A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300 laptops per school server.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Requires RF site survey and carefully designed infrastructu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dcterms:modified xsi:type="dcterms:W3CDTF">2008-09-18T17:58:25Z</dcterms:modified>
  <cp:revision>1</cp:revision>
  <dc:subject/>
  <dc:title>One Laptop per Child</dc:title>
</cp:coreProperties>
</file>